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30.wmf" ContentType="image/x-wmf"/>
  <Override PartName="/ppt/media/image31.wmf" ContentType="image/x-wmf"/>
  <Override PartName="/ppt/media/image2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A034-0B51-41AA-B9CA-E491B9130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166D-0207-4ED2-8A87-7DDD1EC6C5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117B-2142-486D-8354-F27223E53E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ocks doing work, 3 overhead (stall, branch, s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1A0D-4291-47EC-9654-D973943A8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A9B8-113E-4952-81DA-69AEA60AC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5150-CF1A-487D-B4C8-1E7BF97CE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B30F-F603-44E4-B8FB-838755A23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05E0-9FE7-4615-B616-89F69407E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might have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4 stages of instruction execu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atus of FU:  Normal things to keep track of (RAW &amp; structura for busyl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 from instruction format of the mahine (Fi is d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unit can Add or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j, Rk - status of registers (Yes means rea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j,Qk - If a no in Rj, Rk, means waiting for a FU to write result; Qj, Qk means wihch FU waiting for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Status of register result (WAW &amp;WAR)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 is going to write into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board on 6600 = size of F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7, 6.8, 6.9, 6.12, 6.13, 6.16, 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 latencies: Add 2, Mult 10, Div 40 c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A04-103D-4CC6-89AA-EB3B4B92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B4B-4A8A-4500-ABFD-8E5E10D1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69BB6-9B56-4EC8-8730-4FF228E8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6E9BC-BFB1-48D7-9273-B1FD26E4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D980F-13E1-4DA6-95B5-B7228767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7E5EB-CCCA-495A-AAB6-F8EF268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5C1A6-DB66-4A44-A604-C8C26F0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AB56F-4619-4A02-8C7E-47D14274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B6161-98A4-40E8-B5BE-28B32F2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23C78-915A-499B-93BC-F404435B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34FFD-077E-4F4B-81C9-01C3D8F0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F3BB-28DE-4DF0-A1C9-32D28B51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DFB-601F-46CD-BDC7-4E696027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164FB-5193-4867-B1C5-A9F7726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FEA99-5D79-439C-92F7-04B4BC4D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DA4E8-0EBB-454A-8B31-11B21ACF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8353F-E119-4DD3-99DD-EDA446D7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8DAF0-C3DA-4CCE-A211-FEEB4243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BBB9D-857C-425E-81FF-23B33BF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B0D6F-7869-4A61-8700-6F51BBE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90F56-BCF0-4C3C-BDF7-912A9BE2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43A57-62EB-406A-87F5-442A8AB7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A9C56-EDE0-4805-BDCF-7B9EC7F9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CB6-E48A-424A-8B13-19BBCBA8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3CEAC-99C0-4070-B7B6-9CDD3F9C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3F4C6-7DC8-4640-9CD3-7F9491A4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E0B9-9F1F-4FA4-82B4-F80DA89E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DA061-9C07-4407-88BC-B8F9C486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FD82-7A6E-488F-B0E1-40726271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8CC0C-722A-4A21-8C39-D4A32377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23763-F7BD-460F-9CB9-7A3F955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95A13-ADD4-4FF8-BADA-ED2B4CD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877FB-017B-4FFD-8BF6-4FFA471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A1979-C988-4BCA-99F0-B5169C4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A185-877B-41F5-82C3-DB83667F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28891-E4E3-4F0E-BB84-7E15576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94127-EEE9-492C-ACCB-347B5B4D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DAA65-8703-4777-9368-B9360F33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4701D-32DE-4BD3-8D17-CCA121EF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2D142-A8FD-41A3-A2D3-45013E5A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4A27-4A68-4112-A2A2-725F79A5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DEA9F-35AF-434E-A71B-325533B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6AF04-6B4C-42D5-943C-E3149EE1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26526-E8FF-454B-B35A-41971B63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B8D60-EB8C-4EE3-89E2-2C4DAE6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E17-58A9-4B6B-87D9-9963A2FA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23F7-699B-4C20-A1DE-5632D2B2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7CE37-2F1A-48F5-A838-6E661D1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F86E-CCD6-4CBC-97FD-F17A039E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ED4D4-8918-4796-8548-A18EEB0C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1AEEC-1880-41A5-B5F0-EC898DBE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4D35F-A0DB-4472-AC59-60B3BB63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F9350-1C53-4C01-A6FD-176AF322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BAA9D-E97C-428B-B973-653D8FE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01759-F5DE-427F-BB3A-647D9C5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5EB11-734D-4D5E-A531-844049CD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170D-88C4-4400-979C-607B3636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9B67E-B9FA-4B34-8C37-2D17B160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BFC66-DCCD-468E-AC39-86845E4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5E284-66B0-4208-9DB1-1A8A914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C68A3-26F0-43A4-B2A9-29CD031B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F84033-9F11-4E4B-9B01-75372652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F854D-9000-41AE-B12D-682844BD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E0128-2E0F-4D5C-A539-AE0EE4C9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9B14-CE7F-4108-A353-7C341BCF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B57E-1ED7-44AA-951C-0EE036DE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E0E-9145-4A70-8C6B-091130D5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75A7-1713-4EF6-A869-28955F20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547-A89D-4B33-9F34-118AB4D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2D47-CF31-4852-899B-4FA6A22F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57F3-3BCD-4ABA-8EFC-933798C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C22F-7BD4-40BD-A87E-B0589010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9B39-098C-4337-B566-2C3A35A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5C82-B904-4B1A-9966-EC7CD96F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D9E5-9A4C-4AF4-922D-7A12BD35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C67C-8C7E-4E1D-A277-77EB96A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AD9C-7519-47F8-858F-6C47E70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902B-1784-4226-BE04-F931ADB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3E16-A2BC-4783-AA93-F13BAB80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598-537A-4AD1-A903-8285CFD4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F3B1-0AC9-4710-8828-F5C259E7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23F8-8348-4B12-9446-280EDDC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F335-7BC9-4CEE-AE41-81889BD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DFE2-C33A-4780-A1FD-2C5B17CE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5559-3E58-417D-BF64-94D39ACA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11A6-BFF5-4045-94BE-D986CBD6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C44B-9CEB-4F2A-9408-03AB050C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DE46F-FC36-4A6D-8F97-AB766778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7D23-3F91-4C8F-B25A-DFE84845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7A07-7C8E-4452-AFB7-A147AE89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816-A690-4173-8ED2-2E0C5225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9995-AC42-4BF3-842E-C6A52C28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93AA-34D2-4BDC-B444-0A69064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1625-24EC-4A43-B246-DD63987B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3B2EA-00A4-4A87-A82D-A33A6783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E021-D050-418F-9D54-90D6294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7CC8-C0FA-47FA-B77E-9ED9C02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CBC1-32EA-4D21-BB8A-6846EF7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C28D9-8C6E-4E6D-A66B-8076C59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197F-27E5-4E8D-AEAE-5931239C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B9169-EC35-4BE2-8711-08C233CF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2CC-E5FC-41BD-9F9D-B8A7A5A8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2216-A933-43E9-A8A9-0DC4F11E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DCDAF-76B8-4CF7-8B6F-75E482A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38AD-0E2B-4240-B583-DD41B742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6BCB-D73A-4D62-81AF-80BB42AB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2CEB-59DD-4F24-BBF7-B5D92D67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0B02-73D6-4D41-B6E0-70451061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FBA1A-0CE1-469D-89DA-3CDB60C7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6AC69-5242-4657-9D70-2C2C72A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1C4F-D1ED-4F41-9A5F-040E6C2A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31CF-3EC2-4F0D-8078-5FA97F6C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6F7-BD81-4D0E-9FB3-2B5094DC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F41E-FA36-4B19-91F4-908753C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FF14-1486-4886-A6EB-B1A120A4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ED3D-2883-417F-A64A-79410168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D487-3DE0-4B60-9312-D58671CB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3D6E9-DEFF-46D9-BA10-6314783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BD8B9-BB18-4AD2-954D-ADC4194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0186D-C4B3-4389-8D01-C3F7FCE8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C3A0B-D5BE-4CE6-8579-6AC8020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F9BF-E1B2-442A-859E-49B0409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84CE9-85CB-4881-B451-A770A78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759-9721-44BA-A401-63DD46C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8FEB0-FA82-4E63-B7F2-ACC0E793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220EB-2014-47BE-A773-20783C41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433A7-19FD-4BA3-A3B4-DF9E4C95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A6A65-B479-48F6-93C1-F4625B19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D2E0-4AD9-4850-9152-0F5D94D2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E49F-2495-4AD6-ABCE-2C31239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02A8-A6E8-4B1D-99D0-9101F2AD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05B1-DCC1-4CBD-BEE2-723018BB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45F0-1BEF-46A3-B06F-FCEA751D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01A75-04D8-4FAA-8601-93113031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680-DD4A-4BBE-B02F-23314C4D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37215-4273-45E9-9F0D-51C1625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ECCB7-BD56-4D09-AC01-D7748D4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9D0D9-4124-4CFB-BAB3-C9D5312F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17DD-CCCD-46E5-81BB-429924E3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7CC6-F5AB-48C2-B66A-3C4DB39E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32DCC-8E28-4CC9-940E-2F628E5C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51F85-EF32-431C-A85C-7F2B23C1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A9E26-64B6-4525-9031-FFBEB00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8FCD-D3CD-4013-A735-E15AAEDC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C5C76-0684-400A-963B-BA801CFA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B18-DC3B-4AFD-9E16-C4C4885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DE953-D220-40DF-BDDB-3FB0EC71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4AE7-725A-4C64-8FEB-470FE1E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958E-C528-46A6-95E3-9500DC70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CA53-0A3B-4551-B1A7-D1077CC2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04EEA-B5F9-4811-BB20-5D0C59CA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4097-C6FE-4EA6-88C7-F73DB291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3728-CD6C-43D2-8F1B-852C068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2E952-B928-49DA-8D39-606A3CE0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FE301-F2EA-4D11-B322-94296C85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42FD4-56FA-4508-A99E-7ABCC2D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611-35DF-402C-9AF9-903D038E13B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2E9-20CE-4A52-8636-3EA101E429D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2B5-941A-40CC-952D-999D2AA3D04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F8FD-ED5F-4260-9F30-528FF6FC5852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 S06 Lec7 I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0D6-B174-492D-94AA-014B9FC1DB1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EC28-24F3-4B74-8C70-8F762DD997D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4A30-F278-4A32-84A9-0FDE4E53206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3149-1193-4413-8451-298E69BCAB5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3B4-F872-4844-9F4A-D71422B8269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96F-1BAE-4002-AE3D-63126D502EE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E30-C65B-4B1C-89DA-B926E205894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1FA-E4E4-4742-B276-40491E90C48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BA0-D9EB-494D-B845-1430C4D97CF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8: Instruction Level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ame Dependence #2: Output depende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put 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also results from the reuse of name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nti-dependence caused a hazard in the pipeline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Write After Write (WAW) haz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uctions involved in a name dependence can execute simultaneously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f name us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instruction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s chang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o instructions do not confli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gister renam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solves name dependence for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by compiler or by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2209320" y="1787400"/>
            <a:ext cx="3810240" cy="1186200"/>
            <a:chOff x="2209320" y="1787400"/>
            <a:chExt cx="3810240" cy="1186200"/>
          </a:xfrm>
        </p:grpSpPr>
        <p:sp>
          <p:nvSpPr>
            <p:cNvPr id="655" name="Rectangle 5"/>
            <p:cNvSpPr/>
            <p:nvPr/>
          </p:nvSpPr>
          <p:spPr>
            <a:xfrm>
              <a:off x="2666880" y="17874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1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rc 6"/>
            <p:cNvSpPr/>
            <p:nvPr/>
          </p:nvSpPr>
          <p:spPr>
            <a:xfrm flipH="1" flipV="1">
              <a:off x="2208960" y="194004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Dependenc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instruction is control dependent on some set of branches, and, in general, these control dependencies must be preserved to preserve program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p1 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p2 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2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control 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control 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no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Dependence Ignore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dependence need not be preser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ing to execute instructions that should not have been executed, thereby violating the control dependences,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an do so without affecting correctness of the progra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, 2 properties critical to program correctness a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exception behavi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ception Behav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rving exception behavi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y changes in instruction execution order must not change how exceptions are raised in progra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no new exception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R3,R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L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,0(R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ssume branches not delay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 with mov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f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Flo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ata flo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actual flow of data values among instructions that produce results and those that consume th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es make flow dynamic, determine which instruction is supplier of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,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SUB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5,R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7,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pen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SUBU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preserve data flow on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ftware Techniques - Exa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code, add a scalar to a vect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000; i&gt;0; i=i–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[i] = x[i] + s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ume following latencies for all 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elayed branch in these 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990720" y="3581280"/>
            <a:ext cx="8001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332b7"/>
                </a:solidFill>
                <a:latin typeface="Times New Roman"/>
                <a:ea typeface="ＭＳ ゴシック"/>
              </a:rPr>
              <a:t>Latency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332b7"/>
                </a:solidFill>
                <a:latin typeface="Times New Roman"/>
                <a:ea typeface="ＭＳ ゴシック"/>
              </a:rPr>
              <a:t>stalls betwe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cycl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P Loop: Where are the Hazards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43000" y="2517480"/>
            <a:ext cx="7696080" cy="18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0,0(R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F0=vector el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4,F0,F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add scalar from F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(R1),F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stor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DDU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1,R1,-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decrement pointer 8B (DW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1,Loo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branch R1!=z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990720" y="1450800"/>
            <a:ext cx="6921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translate into MIPS co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To simplify, assume 8 is lowe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P Loop Showing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28520" y="5943600"/>
            <a:ext cx="7048440" cy="3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9 clock cycles: Rewrite code to minimize stall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990720" y="4419720"/>
            <a:ext cx="7340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atency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lock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990720" y="1352520"/>
            <a:ext cx="80136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F0=vecto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,F0,F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add scalar in 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0(R1),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stor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decrement pointer 8B (D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ssumes can’t forward to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branch R1!=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09440" y="22824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vised FP Loop Minimizing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5791320"/>
            <a:ext cx="8001000" cy="3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4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7 clock cycles, but just 3 for execution (L.D, ADD.D,S.D), 4 for loop overhead; How make  faster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1066680" y="4267080"/>
            <a:ext cx="7340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atency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lock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990720" y="1486080"/>
            <a:ext cx="808992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,F0,F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8(R1),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altered offset when move DSUB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990720" y="3809880"/>
            <a:ext cx="8305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ap DADDUI and S.D by changing address of S.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 Loop Four Times (straightforward way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413040" y="914040"/>
            <a:ext cx="265428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write loop to minimize stall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762120" y="1066680"/>
            <a:ext cx="861048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0(R1),F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6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0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12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4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#-32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alter to 4*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Arial"/>
                <a:ea typeface="Arial"/>
              </a:rPr>
              <a:t>27 clock cycles, or 6.7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ssumes R1 is multiple of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690440" y="93564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1 cycle 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4709160" y="13168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Comic Sans MS"/>
                <a:ea typeface="ＭＳ ゴシック"/>
              </a:rPr>
              <a:t>2 cycles 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H="1">
            <a:off x="3836880" y="1165320"/>
            <a:ext cx="914400" cy="2286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H="1">
            <a:off x="3836880" y="1469880"/>
            <a:ext cx="914400" cy="22860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9"/>
          <p:cNvGrpSpPr/>
          <p:nvPr/>
        </p:nvGrpSpPr>
        <p:grpSpPr>
          <a:xfrm>
            <a:off x="1841400" y="1407960"/>
            <a:ext cx="1690920" cy="1090440"/>
            <a:chOff x="1841400" y="1407960"/>
            <a:chExt cx="1690920" cy="1090440"/>
          </a:xfrm>
        </p:grpSpPr>
        <p:grpSp>
          <p:nvGrpSpPr>
            <p:cNvPr id="688" name="Group 10"/>
            <p:cNvGrpSpPr/>
            <p:nvPr/>
          </p:nvGrpSpPr>
          <p:grpSpPr>
            <a:xfrm>
              <a:off x="1855800" y="1407960"/>
              <a:ext cx="1676520" cy="271440"/>
              <a:chOff x="1855800" y="1407960"/>
              <a:chExt cx="1676520" cy="271440"/>
            </a:xfrm>
          </p:grpSpPr>
          <p:sp>
            <p:nvSpPr>
              <p:cNvPr id="689" name="Line 11"/>
              <p:cNvSpPr/>
              <p:nvPr/>
            </p:nvSpPr>
            <p:spPr>
              <a:xfrm>
                <a:off x="1855800" y="1407960"/>
                <a:ext cx="167652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2"/>
              <p:cNvSpPr/>
              <p:nvPr/>
            </p:nvSpPr>
            <p:spPr>
              <a:xfrm>
                <a:off x="1855800" y="1679400"/>
                <a:ext cx="167652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1841400" y="2226960"/>
              <a:ext cx="1676520" cy="271440"/>
              <a:chOff x="1841400" y="2226960"/>
              <a:chExt cx="1676520" cy="271440"/>
            </a:xfrm>
          </p:grpSpPr>
          <p:sp>
            <p:nvSpPr>
              <p:cNvPr id="692" name="Line 14"/>
              <p:cNvSpPr/>
              <p:nvPr/>
            </p:nvSpPr>
            <p:spPr>
              <a:xfrm>
                <a:off x="1841400" y="2226960"/>
                <a:ext cx="167652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5"/>
              <p:cNvSpPr/>
              <p:nvPr/>
            </p:nvSpPr>
            <p:spPr>
              <a:xfrm>
                <a:off x="1841400" y="2498400"/>
                <a:ext cx="167652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Group 16"/>
          <p:cNvGrpSpPr/>
          <p:nvPr/>
        </p:nvGrpSpPr>
        <p:grpSpPr>
          <a:xfrm>
            <a:off x="1827360" y="3062160"/>
            <a:ext cx="1690200" cy="1090440"/>
            <a:chOff x="1827360" y="3062160"/>
            <a:chExt cx="1690200" cy="1090440"/>
          </a:xfrm>
        </p:grpSpPr>
        <p:grpSp>
          <p:nvGrpSpPr>
            <p:cNvPr id="695" name="Group 17"/>
            <p:cNvGrpSpPr/>
            <p:nvPr/>
          </p:nvGrpSpPr>
          <p:grpSpPr>
            <a:xfrm>
              <a:off x="1841400" y="3062160"/>
              <a:ext cx="1676160" cy="271440"/>
              <a:chOff x="1841400" y="3062160"/>
              <a:chExt cx="1676160" cy="271440"/>
            </a:xfrm>
          </p:grpSpPr>
          <p:sp>
            <p:nvSpPr>
              <p:cNvPr id="696" name="Line 18"/>
              <p:cNvSpPr/>
              <p:nvPr/>
            </p:nvSpPr>
            <p:spPr>
              <a:xfrm>
                <a:off x="1841400" y="3062160"/>
                <a:ext cx="167616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9"/>
              <p:cNvSpPr/>
              <p:nvPr/>
            </p:nvSpPr>
            <p:spPr>
              <a:xfrm>
                <a:off x="1841400" y="3333600"/>
                <a:ext cx="167616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20"/>
            <p:cNvGrpSpPr/>
            <p:nvPr/>
          </p:nvGrpSpPr>
          <p:grpSpPr>
            <a:xfrm>
              <a:off x="1827360" y="3881160"/>
              <a:ext cx="1676160" cy="271440"/>
              <a:chOff x="1827360" y="3881160"/>
              <a:chExt cx="1676160" cy="271440"/>
            </a:xfrm>
          </p:grpSpPr>
          <p:sp>
            <p:nvSpPr>
              <p:cNvPr id="699" name="Line 21"/>
              <p:cNvSpPr/>
              <p:nvPr/>
            </p:nvSpPr>
            <p:spPr>
              <a:xfrm>
                <a:off x="1827360" y="3881160"/>
                <a:ext cx="167616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2"/>
              <p:cNvSpPr/>
              <p:nvPr/>
            </p:nvSpPr>
            <p:spPr>
              <a:xfrm>
                <a:off x="1827360" y="4152600"/>
                <a:ext cx="167616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iler techniques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coming Data Hazards with Dynamic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asulo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ed Loop Detai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usually know upper bound of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it is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we would like to unroll the loop to make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pies of the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 of a single unrolled loop, we generate a pair of consecutive loop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st executes (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imes and has a body that is the original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nd is the unrolled body surrounded by an outer loop that iterates (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/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i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large values of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most of the execution time will be spent in the unrolled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47600" y="759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ed Loop That Minimizes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1017720" y="1143000"/>
            <a:ext cx="667836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SUB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R1),F16 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Courier New"/>
              </a:rPr>
              <a:t>; 8-32 = 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Arial"/>
                <a:ea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5 Loop Unrolling Decis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s understanding how one instruction depends on another and how the instructions can be changed or reordered given the dependenc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loop unrolling useful by finding that loop iterations were independent (except for maintenance cod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ifferent registers to avoid unnecessary constraints forced by using same registers for different computat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minate the extra test and branch instructions and adjust the loop termination and iteration c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that loads and stores in unrolled loop can be interchanged by observing that loads and stores from different iterations are independ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3360" indent="-27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 requires analyzing memory addresses and finding that they do not refer to the same addr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the code, preserving any dependences needed to yield the same result as the original c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3 Limits to Loop Unrol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e in amount of overhead amortized with each extra unrol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dahl’s La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in code siz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larger loops, concern it increases the instruction cache miss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gister pressu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potential shortfall in registers created by aggressive unrolling and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ot be possible to allocate all live values to registers, may lose some or all of its advan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 reduces impact of branches on pipeline; another way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2438280" y="2895480"/>
          <a:ext cx="6172200" cy="36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895480"/>
                    <a:ext cx="61722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12320" y="15228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t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cture 3 showed scheduling code around delayed bran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reorder code around branches, need to predict branch statically when compi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st scheme is to predict a branch as tak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erage misprediction = untaken branch frequency = 34% SPE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609480" y="3352680"/>
            <a:ext cx="22100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ore accurate scheme predicts branches using profile information collected from earlier runs, and modify prediction based on last ru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043520" y="6215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6407640" y="62150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loating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6019920" y="61707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0"/>
          <p:cNvSpPr/>
          <p:nvPr/>
        </p:nvSpPr>
        <p:spPr>
          <a:xfrm>
            <a:off x="3429000" y="617076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does prediction work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lying algorithm has regular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that is being operated on has regular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uction sequence has redundancies that are artifacts of way that humans/compilers think about probl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dynamic branch prediction better than static branch predic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ms to b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 are a small number of important branches in programs which have dynamic behavi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013600" cy="32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 = ƒ(accuracy, cost of mispredi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History Table: Lower bits of PC address index table of 1-bit val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ys whether or not branch taken la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ddress ch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: in a loop, 1-bit BHT will cause two mispredictions (avg is 9 iteratios before exi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of loop case, when it exits instead of  looping as bef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time through loop on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through code, when it predicts exit instead of loo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996840" y="1219320"/>
            <a:ext cx="7918560" cy="32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2-bit scheme where change prediction only if get mispredic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w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: stop, not t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en: go, t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s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hysteresi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cision mak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"/>
          <p:cNvGrpSpPr/>
          <p:nvPr/>
        </p:nvGrpSpPr>
        <p:grpSpPr>
          <a:xfrm>
            <a:off x="1411920" y="1968480"/>
            <a:ext cx="6696000" cy="3060720"/>
            <a:chOff x="1411920" y="1968480"/>
            <a:chExt cx="6696000" cy="3060720"/>
          </a:xfrm>
        </p:grpSpPr>
        <p:sp>
          <p:nvSpPr>
            <p:cNvPr id="730" name="Rectangle 9"/>
            <p:cNvSpPr/>
            <p:nvPr/>
          </p:nvSpPr>
          <p:spPr>
            <a:xfrm>
              <a:off x="3902040" y="196848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0"/>
            <p:cNvSpPr/>
            <p:nvPr/>
          </p:nvSpPr>
          <p:spPr>
            <a:xfrm>
              <a:off x="3055680" y="332712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1"/>
            <p:cNvSpPr/>
            <p:nvPr/>
          </p:nvSpPr>
          <p:spPr>
            <a:xfrm>
              <a:off x="6090840" y="335268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12"/>
            <p:cNvSpPr/>
            <p:nvPr/>
          </p:nvSpPr>
          <p:spPr>
            <a:xfrm>
              <a:off x="5806800" y="463536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13"/>
            <p:cNvSpPr/>
            <p:nvPr/>
          </p:nvSpPr>
          <p:spPr>
            <a:xfrm>
              <a:off x="1411920" y="2958840"/>
              <a:ext cx="1603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Predict 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14"/>
            <p:cNvSpPr/>
            <p:nvPr/>
          </p:nvSpPr>
          <p:spPr>
            <a:xfrm>
              <a:off x="1651320" y="3746520"/>
              <a:ext cx="1413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redict No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5"/>
            <p:cNvSpPr/>
            <p:nvPr/>
          </p:nvSpPr>
          <p:spPr>
            <a:xfrm>
              <a:off x="6504480" y="2958840"/>
              <a:ext cx="1603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Predict 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16"/>
            <p:cNvSpPr/>
            <p:nvPr/>
          </p:nvSpPr>
          <p:spPr>
            <a:xfrm>
              <a:off x="6439320" y="3708360"/>
              <a:ext cx="1413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redict No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3127320" y="2882880"/>
              <a:ext cx="1270080" cy="507960"/>
            </a:xfrm>
            <a:prstGeom prst="ellipse">
              <a:avLst/>
            </a:prstGeom>
            <a:solidFill>
              <a:srgbClr val="feb8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5146560" y="2895480"/>
              <a:ext cx="1270080" cy="507960"/>
            </a:xfrm>
            <a:prstGeom prst="ellipse">
              <a:avLst/>
            </a:prstGeom>
            <a:solidFill>
              <a:srgbClr val="feb8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19"/>
            <p:cNvSpPr/>
            <p:nvPr/>
          </p:nvSpPr>
          <p:spPr>
            <a:xfrm>
              <a:off x="3152520" y="3632040"/>
              <a:ext cx="1270080" cy="507960"/>
            </a:xfrm>
            <a:prstGeom prst="ellipse">
              <a:avLst/>
            </a:prstGeom>
            <a:solidFill>
              <a:srgbClr val="8dc76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20"/>
            <p:cNvSpPr/>
            <p:nvPr/>
          </p:nvSpPr>
          <p:spPr>
            <a:xfrm>
              <a:off x="5159160" y="3632040"/>
              <a:ext cx="1270080" cy="507960"/>
            </a:xfrm>
            <a:prstGeom prst="ellipse">
              <a:avLst/>
            </a:prstGeom>
            <a:solidFill>
              <a:srgbClr val="8dc76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Arc 21"/>
            <p:cNvSpPr/>
            <p:nvPr/>
          </p:nvSpPr>
          <p:spPr>
            <a:xfrm>
              <a:off x="3474720" y="2365200"/>
              <a:ext cx="762120" cy="554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Arc 22"/>
            <p:cNvSpPr/>
            <p:nvPr/>
          </p:nvSpPr>
          <p:spPr>
            <a:xfrm flipH="1" flipV="1">
              <a:off x="5502240" y="4101120"/>
              <a:ext cx="761760" cy="554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Group 23"/>
            <p:cNvGrpSpPr/>
            <p:nvPr/>
          </p:nvGrpSpPr>
          <p:grpSpPr>
            <a:xfrm>
              <a:off x="4434840" y="3441600"/>
              <a:ext cx="762480" cy="865440"/>
              <a:chOff x="4434840" y="3441600"/>
              <a:chExt cx="762480" cy="865440"/>
            </a:xfrm>
          </p:grpSpPr>
          <p:sp>
            <p:nvSpPr>
              <p:cNvPr id="745" name="Line 24"/>
              <p:cNvSpPr/>
              <p:nvPr/>
            </p:nvSpPr>
            <p:spPr>
              <a:xfrm flipH="1">
                <a:off x="4434840" y="394956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>
                <a:off x="4628880" y="391320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b80a"/>
                    </a:solidFill>
                    <a:latin typeface="Times New Roman"/>
                    <a:ea typeface="ＭＳ ゴシック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26"/>
              <p:cNvSpPr/>
              <p:nvPr/>
            </p:nvSpPr>
            <p:spPr>
              <a:xfrm>
                <a:off x="4536720" y="3441600"/>
                <a:ext cx="521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27"/>
              <p:cNvSpPr/>
              <p:nvPr/>
            </p:nvSpPr>
            <p:spPr>
              <a:xfrm>
                <a:off x="4435200" y="3797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8"/>
            <p:cNvGrpSpPr/>
            <p:nvPr/>
          </p:nvGrpSpPr>
          <p:grpSpPr>
            <a:xfrm>
              <a:off x="4422240" y="2697120"/>
              <a:ext cx="762480" cy="865440"/>
              <a:chOff x="4422240" y="2697120"/>
              <a:chExt cx="762480" cy="865440"/>
            </a:xfrm>
          </p:grpSpPr>
          <p:sp>
            <p:nvSpPr>
              <p:cNvPr id="750" name="Line 29"/>
              <p:cNvSpPr/>
              <p:nvPr/>
            </p:nvSpPr>
            <p:spPr>
              <a:xfrm flipH="1">
                <a:off x="4422240" y="3205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0"/>
              <p:cNvSpPr/>
              <p:nvPr/>
            </p:nvSpPr>
            <p:spPr>
              <a:xfrm>
                <a:off x="4616280" y="316872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b80a"/>
                    </a:solidFill>
                    <a:latin typeface="Times New Roman"/>
                    <a:ea typeface="ＭＳ ゴシック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31"/>
              <p:cNvSpPr/>
              <p:nvPr/>
            </p:nvSpPr>
            <p:spPr>
              <a:xfrm>
                <a:off x="4524120" y="2697120"/>
                <a:ext cx="521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32"/>
              <p:cNvSpPr/>
              <p:nvPr/>
            </p:nvSpPr>
            <p:spPr>
              <a:xfrm>
                <a:off x="4422600" y="30528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33"/>
            <p:cNvSpPr/>
            <p:nvPr/>
          </p:nvSpPr>
          <p:spPr>
            <a:xfrm flipV="1">
              <a:off x="3749400" y="3415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34"/>
            <p:cNvSpPr/>
            <p:nvPr/>
          </p:nvSpPr>
          <p:spPr>
            <a:xfrm>
              <a:off x="5806800" y="3416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2133720" y="2666880"/>
          <a:ext cx="6705360" cy="40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666880"/>
                    <a:ext cx="6705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12320" y="15228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HT Accurac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predict because eith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6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ong guess for that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6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t branch history of wrong branch when index the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096 entry tab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3657600" y="6400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105600" y="64008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loa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5410080" y="6400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3200400" y="6400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rrelated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a:  recor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st recently executed branches as taken or not taken, and use that pattern to select the prop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branch history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general,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predictor means record la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anches to select betwee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istory tables, each with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cou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old 2-bit BHT is a (0,2) predi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lobal Branch History: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 shift register keeping T/NT status of la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anch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entry in table h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 predicto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call from Pipelining Re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 CPI = Ideal pipeline CPI + Structural Stalls + Data Hazard Stalls + Control Sta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Ideal pipeline CP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measure of the maximum performance attainable by the imple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Structura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HW cannot support this combination of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ata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Instruction depends on result of prior instruction still in the pip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Contro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aused by delay between the fetching of instructions and decisions about changes in control flow (branches and jump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12320" y="377640"/>
            <a:ext cx="7293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rrelating Branch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1092240" y="1523880"/>
            <a:ext cx="304812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2,2) predi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ehavior of recent branches selects between four predictions of next branch, updating just that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4621320" y="1562040"/>
            <a:ext cx="210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ranch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962520" y="24256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-bits per branch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447840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507060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507060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507060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507060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507060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507060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507060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4"/>
          <p:cNvSpPr/>
          <p:nvPr/>
        </p:nvSpPr>
        <p:spPr>
          <a:xfrm>
            <a:off x="447840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5"/>
          <p:cNvSpPr/>
          <p:nvPr/>
        </p:nvSpPr>
        <p:spPr>
          <a:xfrm>
            <a:off x="447840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447840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17"/>
          <p:cNvSpPr/>
          <p:nvPr/>
        </p:nvSpPr>
        <p:spPr>
          <a:xfrm>
            <a:off x="447840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8"/>
          <p:cNvSpPr/>
          <p:nvPr/>
        </p:nvSpPr>
        <p:spPr>
          <a:xfrm>
            <a:off x="447840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9"/>
          <p:cNvSpPr/>
          <p:nvPr/>
        </p:nvSpPr>
        <p:spPr>
          <a:xfrm>
            <a:off x="447840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447840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21"/>
          <p:cNvSpPr/>
          <p:nvPr/>
        </p:nvSpPr>
        <p:spPr>
          <a:xfrm>
            <a:off x="447840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22"/>
          <p:cNvSpPr/>
          <p:nvPr/>
        </p:nvSpPr>
        <p:spPr>
          <a:xfrm>
            <a:off x="447840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447840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447840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07060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507060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7"/>
          <p:cNvSpPr/>
          <p:nvPr/>
        </p:nvSpPr>
        <p:spPr>
          <a:xfrm>
            <a:off x="507060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5070600" y="3460680"/>
            <a:ext cx="414360" cy="104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9"/>
          <p:cNvSpPr/>
          <p:nvPr/>
        </p:nvSpPr>
        <p:spPr>
          <a:xfrm>
            <a:off x="447840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0"/>
          <p:cNvSpPr/>
          <p:nvPr/>
        </p:nvSpPr>
        <p:spPr>
          <a:xfrm>
            <a:off x="447840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1"/>
          <p:cNvSpPr/>
          <p:nvPr/>
        </p:nvSpPr>
        <p:spPr>
          <a:xfrm>
            <a:off x="447840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32"/>
          <p:cNvSpPr/>
          <p:nvPr/>
        </p:nvSpPr>
        <p:spPr>
          <a:xfrm>
            <a:off x="447840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3"/>
          <p:cNvSpPr/>
          <p:nvPr/>
        </p:nvSpPr>
        <p:spPr>
          <a:xfrm>
            <a:off x="507060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34"/>
          <p:cNvSpPr/>
          <p:nvPr/>
        </p:nvSpPr>
        <p:spPr>
          <a:xfrm>
            <a:off x="507060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5"/>
          <p:cNvSpPr/>
          <p:nvPr/>
        </p:nvSpPr>
        <p:spPr>
          <a:xfrm>
            <a:off x="507060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6"/>
          <p:cNvSpPr/>
          <p:nvPr/>
        </p:nvSpPr>
        <p:spPr>
          <a:xfrm>
            <a:off x="507060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7"/>
          <p:cNvSpPr/>
          <p:nvPr/>
        </p:nvSpPr>
        <p:spPr>
          <a:xfrm>
            <a:off x="507060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8"/>
          <p:cNvSpPr/>
          <p:nvPr/>
        </p:nvSpPr>
        <p:spPr>
          <a:xfrm>
            <a:off x="566244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9"/>
          <p:cNvSpPr/>
          <p:nvPr/>
        </p:nvSpPr>
        <p:spPr>
          <a:xfrm>
            <a:off x="566244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0"/>
          <p:cNvSpPr/>
          <p:nvPr/>
        </p:nvSpPr>
        <p:spPr>
          <a:xfrm>
            <a:off x="566244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1"/>
          <p:cNvSpPr/>
          <p:nvPr/>
        </p:nvSpPr>
        <p:spPr>
          <a:xfrm>
            <a:off x="566244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2"/>
          <p:cNvSpPr/>
          <p:nvPr/>
        </p:nvSpPr>
        <p:spPr>
          <a:xfrm>
            <a:off x="566244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3"/>
          <p:cNvSpPr/>
          <p:nvPr/>
        </p:nvSpPr>
        <p:spPr>
          <a:xfrm>
            <a:off x="566244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4"/>
          <p:cNvSpPr/>
          <p:nvPr/>
        </p:nvSpPr>
        <p:spPr>
          <a:xfrm>
            <a:off x="566244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5"/>
          <p:cNvSpPr/>
          <p:nvPr/>
        </p:nvSpPr>
        <p:spPr>
          <a:xfrm>
            <a:off x="566244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6"/>
          <p:cNvSpPr/>
          <p:nvPr/>
        </p:nvSpPr>
        <p:spPr>
          <a:xfrm>
            <a:off x="625464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7"/>
          <p:cNvSpPr/>
          <p:nvPr/>
        </p:nvSpPr>
        <p:spPr>
          <a:xfrm>
            <a:off x="566244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48"/>
          <p:cNvSpPr/>
          <p:nvPr/>
        </p:nvSpPr>
        <p:spPr>
          <a:xfrm>
            <a:off x="566244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9"/>
          <p:cNvSpPr/>
          <p:nvPr/>
        </p:nvSpPr>
        <p:spPr>
          <a:xfrm>
            <a:off x="566244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50"/>
          <p:cNvSpPr/>
          <p:nvPr/>
        </p:nvSpPr>
        <p:spPr>
          <a:xfrm>
            <a:off x="566244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566244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566244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566244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566244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55"/>
          <p:cNvSpPr/>
          <p:nvPr/>
        </p:nvSpPr>
        <p:spPr>
          <a:xfrm>
            <a:off x="625464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56"/>
          <p:cNvSpPr/>
          <p:nvPr/>
        </p:nvSpPr>
        <p:spPr>
          <a:xfrm>
            <a:off x="625464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7"/>
          <p:cNvSpPr/>
          <p:nvPr/>
        </p:nvSpPr>
        <p:spPr>
          <a:xfrm>
            <a:off x="625464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58"/>
          <p:cNvSpPr/>
          <p:nvPr/>
        </p:nvSpPr>
        <p:spPr>
          <a:xfrm>
            <a:off x="625464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59"/>
          <p:cNvSpPr/>
          <p:nvPr/>
        </p:nvSpPr>
        <p:spPr>
          <a:xfrm>
            <a:off x="625464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60"/>
          <p:cNvSpPr/>
          <p:nvPr/>
        </p:nvSpPr>
        <p:spPr>
          <a:xfrm>
            <a:off x="625464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61"/>
          <p:cNvSpPr/>
          <p:nvPr/>
        </p:nvSpPr>
        <p:spPr>
          <a:xfrm>
            <a:off x="625464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62"/>
          <p:cNvSpPr/>
          <p:nvPr/>
        </p:nvSpPr>
        <p:spPr>
          <a:xfrm>
            <a:off x="625464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63"/>
          <p:cNvSpPr/>
          <p:nvPr/>
        </p:nvSpPr>
        <p:spPr>
          <a:xfrm>
            <a:off x="625464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64"/>
          <p:cNvSpPr/>
          <p:nvPr/>
        </p:nvSpPr>
        <p:spPr>
          <a:xfrm>
            <a:off x="625464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5"/>
          <p:cNvSpPr/>
          <p:nvPr/>
        </p:nvSpPr>
        <p:spPr>
          <a:xfrm>
            <a:off x="625464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66"/>
          <p:cNvSpPr/>
          <p:nvPr/>
        </p:nvSpPr>
        <p:spPr>
          <a:xfrm>
            <a:off x="625464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67"/>
          <p:cNvSpPr/>
          <p:nvPr/>
        </p:nvSpPr>
        <p:spPr>
          <a:xfrm>
            <a:off x="625464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8"/>
          <p:cNvSpPr/>
          <p:nvPr/>
        </p:nvSpPr>
        <p:spPr>
          <a:xfrm>
            <a:off x="625464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69"/>
          <p:cNvSpPr/>
          <p:nvPr/>
        </p:nvSpPr>
        <p:spPr>
          <a:xfrm>
            <a:off x="625464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4" name="AutoShape 70"/>
          <p:cNvCxnSpPr/>
          <p:nvPr/>
        </p:nvCxnSpPr>
        <p:spPr>
          <a:xfrm flipV="1" rot="10800000">
            <a:off x="4403160" y="2236680"/>
            <a:ext cx="1262520" cy="1276920"/>
          </a:xfrm>
          <a:prstGeom prst="bentConnector3">
            <a:avLst>
              <a:gd name="adj1" fmla="val 1221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5" name="Line 71"/>
          <p:cNvSpPr/>
          <p:nvPr/>
        </p:nvSpPr>
        <p:spPr>
          <a:xfrm flipV="1">
            <a:off x="6651720" y="3512880"/>
            <a:ext cx="2966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72"/>
          <p:cNvSpPr/>
          <p:nvPr/>
        </p:nvSpPr>
        <p:spPr>
          <a:xfrm>
            <a:off x="7024680" y="3460680"/>
            <a:ext cx="414360" cy="104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3"/>
          <p:cNvSpPr/>
          <p:nvPr/>
        </p:nvSpPr>
        <p:spPr>
          <a:xfrm>
            <a:off x="7485120" y="3317760"/>
            <a:ext cx="13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4"/>
          <p:cNvSpPr/>
          <p:nvPr/>
        </p:nvSpPr>
        <p:spPr>
          <a:xfrm>
            <a:off x="4419720" y="5284800"/>
            <a:ext cx="3017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-bit global branch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AutoShape 75"/>
          <p:cNvCxnSpPr>
            <a:endCxn id="801" idx="2"/>
          </p:cNvCxnSpPr>
          <p:nvPr/>
        </p:nvCxnSpPr>
        <p:spPr>
          <a:xfrm flipV="1">
            <a:off x="5277960" y="4406040"/>
            <a:ext cx="1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Line 76"/>
          <p:cNvSpPr/>
          <p:nvPr/>
        </p:nvSpPr>
        <p:spPr>
          <a:xfrm flipV="1">
            <a:off x="5672160" y="188244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77"/>
          <p:cNvSpPr/>
          <p:nvPr/>
        </p:nvSpPr>
        <p:spPr>
          <a:xfrm>
            <a:off x="5535720" y="2023920"/>
            <a:ext cx="3031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78"/>
          <p:cNvSpPr/>
          <p:nvPr/>
        </p:nvSpPr>
        <p:spPr>
          <a:xfrm>
            <a:off x="5838840" y="190980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79"/>
          <p:cNvSpPr/>
          <p:nvPr/>
        </p:nvSpPr>
        <p:spPr>
          <a:xfrm>
            <a:off x="7147080" y="206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Group 80"/>
          <p:cNvGrpSpPr/>
          <p:nvPr/>
        </p:nvGrpSpPr>
        <p:grpSpPr>
          <a:xfrm>
            <a:off x="4680000" y="4915080"/>
            <a:ext cx="1212840" cy="349200"/>
            <a:chOff x="4680000" y="4915080"/>
            <a:chExt cx="1212840" cy="349200"/>
          </a:xfrm>
        </p:grpSpPr>
        <p:sp>
          <p:nvSpPr>
            <p:cNvPr id="845" name="Line 81"/>
            <p:cNvSpPr/>
            <p:nvPr/>
          </p:nvSpPr>
          <p:spPr>
            <a:xfrm>
              <a:off x="5289840" y="4927680"/>
              <a:ext cx="5968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82"/>
            <p:cNvSpPr/>
            <p:nvPr/>
          </p:nvSpPr>
          <p:spPr>
            <a:xfrm flipV="1">
              <a:off x="4680000" y="4915080"/>
              <a:ext cx="6033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83"/>
            <p:cNvSpPr/>
            <p:nvPr/>
          </p:nvSpPr>
          <p:spPr>
            <a:xfrm>
              <a:off x="4680000" y="5118120"/>
              <a:ext cx="1212840" cy="1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84"/>
            <p:cNvSpPr/>
            <p:nvPr/>
          </p:nvSpPr>
          <p:spPr>
            <a:xfrm>
              <a:off x="5286600" y="5124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366920" y="4778280"/>
            <a:ext cx="490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16200000">
            <a:off x="-461160" y="3110760"/>
            <a:ext cx="33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requency of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ゴシック"/>
              </a:rPr>
              <a:t>Mis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1866960" y="4795920"/>
            <a:ext cx="183960" cy="160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3164040" y="4795920"/>
            <a:ext cx="185760" cy="160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3807000" y="4127400"/>
            <a:ext cx="185400" cy="82872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4449600" y="3471840"/>
            <a:ext cx="185760" cy="1484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8"/>
          <p:cNvSpPr/>
          <p:nvPr/>
        </p:nvSpPr>
        <p:spPr>
          <a:xfrm>
            <a:off x="5105520" y="3471840"/>
            <a:ext cx="183960" cy="1484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5748480" y="2976480"/>
            <a:ext cx="183960" cy="197964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6389640" y="4127400"/>
            <a:ext cx="185760" cy="82872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7032600" y="1996920"/>
            <a:ext cx="185760" cy="2959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7688160" y="3309840"/>
            <a:ext cx="185760" cy="1646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3992400" y="4127400"/>
            <a:ext cx="185760" cy="82872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4635360" y="3471840"/>
            <a:ext cx="196920" cy="1484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5289480" y="3471840"/>
            <a:ext cx="185760" cy="1484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5932440" y="3147840"/>
            <a:ext cx="185760" cy="1808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7"/>
          <p:cNvSpPr/>
          <p:nvPr/>
        </p:nvSpPr>
        <p:spPr>
          <a:xfrm>
            <a:off x="6575400" y="4127400"/>
            <a:ext cx="185760" cy="82872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7218360" y="1996920"/>
            <a:ext cx="198360" cy="295920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7873920" y="3309840"/>
            <a:ext cx="185760" cy="1646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2236680" y="4795920"/>
            <a:ext cx="185760" cy="16020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1"/>
          <p:cNvSpPr/>
          <p:nvPr/>
        </p:nvSpPr>
        <p:spPr>
          <a:xfrm>
            <a:off x="3535200" y="4795920"/>
            <a:ext cx="185760" cy="16020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4178160" y="4127400"/>
            <a:ext cx="185760" cy="8287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3"/>
          <p:cNvSpPr/>
          <p:nvPr/>
        </p:nvSpPr>
        <p:spPr>
          <a:xfrm>
            <a:off x="483228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4"/>
          <p:cNvSpPr/>
          <p:nvPr/>
        </p:nvSpPr>
        <p:spPr>
          <a:xfrm>
            <a:off x="547524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5"/>
          <p:cNvSpPr/>
          <p:nvPr/>
        </p:nvSpPr>
        <p:spPr>
          <a:xfrm>
            <a:off x="6118200" y="3147840"/>
            <a:ext cx="185760" cy="180828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26"/>
          <p:cNvSpPr/>
          <p:nvPr/>
        </p:nvSpPr>
        <p:spPr>
          <a:xfrm>
            <a:off x="6761160" y="4300560"/>
            <a:ext cx="185760" cy="65556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7"/>
          <p:cNvSpPr/>
          <p:nvPr/>
        </p:nvSpPr>
        <p:spPr>
          <a:xfrm>
            <a:off x="741672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8"/>
          <p:cNvSpPr/>
          <p:nvPr/>
        </p:nvSpPr>
        <p:spPr>
          <a:xfrm>
            <a:off x="8059680" y="4127400"/>
            <a:ext cx="184320" cy="8287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9"/>
          <p:cNvSpPr/>
          <p:nvPr/>
        </p:nvSpPr>
        <p:spPr>
          <a:xfrm>
            <a:off x="1828800" y="1663560"/>
            <a:ext cx="1440" cy="32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30"/>
          <p:cNvSpPr/>
          <p:nvPr/>
        </p:nvSpPr>
        <p:spPr>
          <a:xfrm>
            <a:off x="1792440" y="495612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31"/>
          <p:cNvSpPr/>
          <p:nvPr/>
        </p:nvSpPr>
        <p:spPr>
          <a:xfrm>
            <a:off x="1792440" y="462276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32"/>
          <p:cNvSpPr/>
          <p:nvPr/>
        </p:nvSpPr>
        <p:spPr>
          <a:xfrm>
            <a:off x="1792440" y="430056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3"/>
          <p:cNvSpPr/>
          <p:nvPr/>
        </p:nvSpPr>
        <p:spPr>
          <a:xfrm>
            <a:off x="1792440" y="396720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34"/>
          <p:cNvSpPr/>
          <p:nvPr/>
        </p:nvSpPr>
        <p:spPr>
          <a:xfrm>
            <a:off x="1792440" y="364320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5"/>
          <p:cNvSpPr/>
          <p:nvPr/>
        </p:nvSpPr>
        <p:spPr>
          <a:xfrm>
            <a:off x="1792440" y="330984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36"/>
          <p:cNvSpPr/>
          <p:nvPr/>
        </p:nvSpPr>
        <p:spPr>
          <a:xfrm>
            <a:off x="1792440" y="297648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792440" y="265284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792440" y="231948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1792440" y="199692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1792440" y="166356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1828800" y="4956120"/>
            <a:ext cx="6465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42"/>
          <p:cNvSpPr/>
          <p:nvPr/>
        </p:nvSpPr>
        <p:spPr>
          <a:xfrm flipV="1">
            <a:off x="182880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3"/>
          <p:cNvSpPr/>
          <p:nvPr/>
        </p:nvSpPr>
        <p:spPr>
          <a:xfrm flipV="1">
            <a:off x="24717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44"/>
          <p:cNvSpPr/>
          <p:nvPr/>
        </p:nvSpPr>
        <p:spPr>
          <a:xfrm flipV="1">
            <a:off x="3127320" y="4924080"/>
            <a:ext cx="18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45"/>
          <p:cNvSpPr/>
          <p:nvPr/>
        </p:nvSpPr>
        <p:spPr>
          <a:xfrm flipV="1">
            <a:off x="3770280" y="4924080"/>
            <a:ext cx="18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46"/>
          <p:cNvSpPr/>
          <p:nvPr/>
        </p:nvSpPr>
        <p:spPr>
          <a:xfrm flipV="1">
            <a:off x="441324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47"/>
          <p:cNvSpPr/>
          <p:nvPr/>
        </p:nvSpPr>
        <p:spPr>
          <a:xfrm flipV="1">
            <a:off x="50673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48"/>
          <p:cNvSpPr/>
          <p:nvPr/>
        </p:nvSpPr>
        <p:spPr>
          <a:xfrm flipV="1">
            <a:off x="571032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49"/>
          <p:cNvSpPr/>
          <p:nvPr/>
        </p:nvSpPr>
        <p:spPr>
          <a:xfrm flipV="1">
            <a:off x="635328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0"/>
          <p:cNvSpPr/>
          <p:nvPr/>
        </p:nvSpPr>
        <p:spPr>
          <a:xfrm flipV="1">
            <a:off x="699624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51"/>
          <p:cNvSpPr/>
          <p:nvPr/>
        </p:nvSpPr>
        <p:spPr>
          <a:xfrm flipV="1">
            <a:off x="765180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52"/>
          <p:cNvSpPr/>
          <p:nvPr/>
        </p:nvSpPr>
        <p:spPr>
          <a:xfrm flipV="1">
            <a:off x="82947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53"/>
          <p:cNvSpPr/>
          <p:nvPr/>
        </p:nvSpPr>
        <p:spPr>
          <a:xfrm>
            <a:off x="2897280" y="4789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54"/>
          <p:cNvSpPr/>
          <p:nvPr/>
        </p:nvSpPr>
        <p:spPr>
          <a:xfrm>
            <a:off x="3540240" y="4627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5"/>
          <p:cNvSpPr/>
          <p:nvPr/>
        </p:nvSpPr>
        <p:spPr>
          <a:xfrm>
            <a:off x="4183200" y="3960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6"/>
          <p:cNvSpPr/>
          <p:nvPr/>
        </p:nvSpPr>
        <p:spPr>
          <a:xfrm>
            <a:off x="486396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7"/>
          <p:cNvSpPr/>
          <p:nvPr/>
        </p:nvSpPr>
        <p:spPr>
          <a:xfrm>
            <a:off x="550692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58"/>
          <p:cNvSpPr/>
          <p:nvPr/>
        </p:nvSpPr>
        <p:spPr>
          <a:xfrm>
            <a:off x="6111720" y="2981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59"/>
          <p:cNvSpPr/>
          <p:nvPr/>
        </p:nvSpPr>
        <p:spPr>
          <a:xfrm>
            <a:off x="6804000" y="4132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60"/>
          <p:cNvSpPr/>
          <p:nvPr/>
        </p:nvSpPr>
        <p:spPr>
          <a:xfrm>
            <a:off x="744696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61"/>
          <p:cNvSpPr/>
          <p:nvPr/>
        </p:nvSpPr>
        <p:spPr>
          <a:xfrm>
            <a:off x="8102520" y="3960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62"/>
          <p:cNvSpPr/>
          <p:nvPr/>
        </p:nvSpPr>
        <p:spPr>
          <a:xfrm>
            <a:off x="2243160" y="4627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63"/>
          <p:cNvSpPr/>
          <p:nvPr/>
        </p:nvSpPr>
        <p:spPr>
          <a:xfrm>
            <a:off x="1501920" y="453708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4"/>
          <p:cNvSpPr/>
          <p:nvPr/>
        </p:nvSpPr>
        <p:spPr>
          <a:xfrm>
            <a:off x="1501920" y="421488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65"/>
          <p:cNvSpPr/>
          <p:nvPr/>
        </p:nvSpPr>
        <p:spPr>
          <a:xfrm>
            <a:off x="1501920" y="38815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66"/>
          <p:cNvSpPr/>
          <p:nvPr/>
        </p:nvSpPr>
        <p:spPr>
          <a:xfrm>
            <a:off x="1501920" y="35575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67"/>
          <p:cNvSpPr/>
          <p:nvPr/>
        </p:nvSpPr>
        <p:spPr>
          <a:xfrm>
            <a:off x="1425600" y="3224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8"/>
          <p:cNvSpPr/>
          <p:nvPr/>
        </p:nvSpPr>
        <p:spPr>
          <a:xfrm>
            <a:off x="1425600" y="289080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69"/>
          <p:cNvSpPr/>
          <p:nvPr/>
        </p:nvSpPr>
        <p:spPr>
          <a:xfrm>
            <a:off x="1425600" y="2567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70"/>
          <p:cNvSpPr/>
          <p:nvPr/>
        </p:nvSpPr>
        <p:spPr>
          <a:xfrm>
            <a:off x="1425600" y="223344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1"/>
          <p:cNvSpPr/>
          <p:nvPr/>
        </p:nvSpPr>
        <p:spPr>
          <a:xfrm>
            <a:off x="1425600" y="191124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72"/>
          <p:cNvSpPr/>
          <p:nvPr/>
        </p:nvSpPr>
        <p:spPr>
          <a:xfrm>
            <a:off x="1425600" y="157788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73"/>
          <p:cNvSpPr/>
          <p:nvPr/>
        </p:nvSpPr>
        <p:spPr>
          <a:xfrm>
            <a:off x="2200320" y="5818320"/>
            <a:ext cx="572292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74"/>
          <p:cNvSpPr/>
          <p:nvPr/>
        </p:nvSpPr>
        <p:spPr>
          <a:xfrm>
            <a:off x="2236680" y="5884920"/>
            <a:ext cx="74880" cy="6516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75"/>
          <p:cNvSpPr/>
          <p:nvPr/>
        </p:nvSpPr>
        <p:spPr>
          <a:xfrm>
            <a:off x="2357280" y="5834160"/>
            <a:ext cx="187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,096 entries:  2-bits per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76"/>
          <p:cNvSpPr/>
          <p:nvPr/>
        </p:nvSpPr>
        <p:spPr>
          <a:xfrm>
            <a:off x="4363920" y="5884920"/>
            <a:ext cx="73080" cy="6516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77"/>
          <p:cNvSpPr/>
          <p:nvPr/>
        </p:nvSpPr>
        <p:spPr>
          <a:xfrm>
            <a:off x="4483080" y="5834160"/>
            <a:ext cx="192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nlimited entries:  2-bits/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78"/>
          <p:cNvSpPr/>
          <p:nvPr/>
        </p:nvSpPr>
        <p:spPr>
          <a:xfrm>
            <a:off x="6477120" y="5884920"/>
            <a:ext cx="74520" cy="6516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79"/>
          <p:cNvSpPr/>
          <p:nvPr/>
        </p:nvSpPr>
        <p:spPr>
          <a:xfrm>
            <a:off x="6594120" y="5834160"/>
            <a:ext cx="115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,024 entries 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720" y="477720"/>
            <a:ext cx="7005600" cy="4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ccuracy of Different Scheme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8" name="Rectangle 81"/>
          <p:cNvSpPr/>
          <p:nvPr/>
        </p:nvSpPr>
        <p:spPr>
          <a:xfrm>
            <a:off x="2552400" y="1655640"/>
            <a:ext cx="370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4096 Entries 2-bit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ＭＳ ゴシック"/>
              </a:rPr>
              <a:t>Unlimited Entries 2-bit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1024 Entries (2,2)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82"/>
          <p:cNvSpPr/>
          <p:nvPr/>
        </p:nvSpPr>
        <p:spPr>
          <a:xfrm rot="16200000">
            <a:off x="1763640" y="5212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asa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83"/>
          <p:cNvSpPr/>
          <p:nvPr/>
        </p:nvSpPr>
        <p:spPr>
          <a:xfrm rot="16200000">
            <a:off x="22622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trix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84"/>
          <p:cNvSpPr/>
          <p:nvPr/>
        </p:nvSpPr>
        <p:spPr>
          <a:xfrm rot="16200000">
            <a:off x="359568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odu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5"/>
          <p:cNvSpPr/>
          <p:nvPr/>
        </p:nvSpPr>
        <p:spPr>
          <a:xfrm rot="16200000">
            <a:off x="423252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p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6"/>
          <p:cNvSpPr/>
          <p:nvPr/>
        </p:nvSpPr>
        <p:spPr>
          <a:xfrm rot="16200000">
            <a:off x="487836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7"/>
          <p:cNvSpPr/>
          <p:nvPr/>
        </p:nvSpPr>
        <p:spPr>
          <a:xfrm rot="16200000">
            <a:off x="553896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88"/>
          <p:cNvSpPr/>
          <p:nvPr/>
        </p:nvSpPr>
        <p:spPr>
          <a:xfrm rot="16200000">
            <a:off x="61610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xpr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89"/>
          <p:cNvSpPr/>
          <p:nvPr/>
        </p:nvSpPr>
        <p:spPr>
          <a:xfrm rot="16200000">
            <a:off x="68216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qnto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90"/>
          <p:cNvSpPr/>
          <p:nvPr/>
        </p:nvSpPr>
        <p:spPr>
          <a:xfrm rot="16200000">
            <a:off x="747072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91"/>
          <p:cNvSpPr/>
          <p:nvPr/>
        </p:nvSpPr>
        <p:spPr>
          <a:xfrm rot="16200000">
            <a:off x="29480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omca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urnament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level branch predi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saturating counter to choose between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predi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 choice between global and local predi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41" name="Picture 4" descr="Ch3-fig16"/>
          <p:cNvPicPr/>
          <p:nvPr/>
        </p:nvPicPr>
        <p:blipFill>
          <a:blip r:embed="rId2"/>
          <a:stretch/>
        </p:blipFill>
        <p:spPr>
          <a:xfrm>
            <a:off x="2057400" y="3200400"/>
            <a:ext cx="47642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urnament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09800" y="99072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urnament predictor using, say, 4K 2-bit counters indexed by local branch address.  Chooses betwee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19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lobal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K entries index by history of last 12 branches (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12 =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K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ch entry is a standard 2-bit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19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cal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cal history table: 1024 10-bit entries recording last 10 branches, index by branch addr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pattern of the last 10 occurrences of that particular branch used to index table of 1K entries with 3-bit saturating coun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4" descr="CAAQA4eTournament"/>
          <p:cNvPicPr/>
          <p:nvPr/>
        </p:nvPicPr>
        <p:blipFill>
          <a:blip r:embed="rId2"/>
          <a:stretch/>
        </p:blipFill>
        <p:spPr>
          <a:xfrm>
            <a:off x="3903840" y="3429000"/>
            <a:ext cx="4782960" cy="3355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paring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002960" y="106668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antage of tournament predictor is ability to select the right predictor for a particular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ticularly crucial for integer benchmark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typical tournament predictor will select the global predictor almost 40% of the time for the SPEC integer benchmarks and less than 15% of the time for the SPEC FP benchma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1015920" y="1185480"/>
            <a:ext cx="7670880" cy="44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Branch target calculation is costly and stalls the instruction fetc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BTB stores PCs the same way as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The PC of a branch is sent to the BT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When a match is found the corresponding Predicted PC is retur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f the branch was predicted taken, instruction fetch continues at the returned predicted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8076960" cy="58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Target Buffers (BTB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07696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Target Buffe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6" descr="Ch3-fig19"/>
          <p:cNvPicPr/>
          <p:nvPr/>
        </p:nvPicPr>
        <p:blipFill>
          <a:blip r:embed="rId2"/>
          <a:stretch/>
        </p:blipFill>
        <p:spPr>
          <a:xfrm>
            <a:off x="1523880" y="1447920"/>
            <a:ext cx="583560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360" y="330120"/>
            <a:ext cx="784836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 Summar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diction becoming important part of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History Table: 2 bits for loop accura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rrelation: Recently executed branches correlated with next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different branches (G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 different executions of same branches (P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rnament predictors take insight to next level, by using multiple predicto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ly one based on global information and one based on local information, and combining them with a sele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2006, tournament predictors us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0K bits are in processors like the Power5 and Pentium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Target Buffer: include branch address &amp;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360" y="330120"/>
            <a:ext cx="7848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dvantages of Dynamic Schedu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ynamic scheduling -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dware rearranges the instruction execution to reduce stalls while maintaining data flow and exception behavi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handles cases when dependences unknown at compile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allows the processor to tolerate unpredictable delays such as cache misses, by executing other code while waiting for the miss to resol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allows code that compiled for one pipeline to run efficiently on a different pipelin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simplifies the compi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Hardware specul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 technique with significant performance advantages, builds on dynamic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W Schemes: Instruction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 idea: Allow instructions behind stall to proc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dc765"/>
                </a:solidFill>
                <a:latin typeface="Courier New"/>
              </a:rPr>
              <a:t>F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F2,F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10,</a:t>
            </a:r>
            <a:r>
              <a:rPr b="0" lang="en-US" sz="2000" spc="-1" strike="noStrike">
                <a:solidFill>
                  <a:srgbClr val="8dc765"/>
                </a:solidFill>
                <a:latin typeface="Courier New"/>
              </a:rPr>
              <a:t>F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F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SUBD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F12,F8,F1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-of-order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allow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-of-order completion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 dynamically scheduled pipeline, all instructions still pass through issue stage in order (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-order iss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distinguish when an instruction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begins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when it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completes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between 2 times, the instruction is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in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Dynamic execution creates WAR and WAW hazards and makes exceptions ha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struction Level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struction-Level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L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: overlap the execution of instructions to improv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 approaches to exploit ILP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y on hardware to help discover and exploit the parallelism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Pentium 4, AMD Opteron, IBM Power)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y on software technology to find parallelism,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statical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 compile-time (e.g., Itanium 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Scheduling Step 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pipeline had 1 stage to check both structural and data hazards: Instruction Decode (ID), also called Instruction Iss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lit the ID pipe stage of simple 5-stage pipeline into 2 stag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13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Issu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ode instructions, check for structural hazard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spcAft>
                <a:spcPts val="13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Read</a:t>
            </a:r>
            <a:r>
              <a:rPr b="0" i="1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operand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it until no data hazards, then read oper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 Dynamic Algorithm: Tomasulo’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41480" y="137160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IBM 360/91 (before caches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memory lat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: High Performance without special compil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number of floating point registers (4 in 360) prevented interesting compiler scheduling of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led Tomasulo to try to figure out how to get more effective registers —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naming in hardware!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Study 1966 Compute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escendants of this have flourished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pha 21264, Pentium 4, AMD Opteron, Power 5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Algorith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41480" y="1142640"/>
            <a:ext cx="795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&amp; buffers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th Function Units (FU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 buffers called “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servation st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; have pending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in instructions replaced by values or pointers to reservation stations(RS); called 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gister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naming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aming avoids WAR, WAW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reservation stations than registers, so can do optimizations compilers can’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s to FU from RS,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not through regis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ver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Common Data Bus</a:t>
            </a: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at broadcasts results to all F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oids RAW hazards by executing an instruction only when its operands are avai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and Stores treated as FUs with RSs as w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ger instructions can go past branches (predict taken), allowing FP ops beyond basic block in FP que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Organiz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970" name="Group 3"/>
          <p:cNvGrpSpPr/>
          <p:nvPr/>
        </p:nvGrpSpPr>
        <p:grpSpPr>
          <a:xfrm>
            <a:off x="725400" y="2225520"/>
            <a:ext cx="914400" cy="1218960"/>
            <a:chOff x="725400" y="2225520"/>
            <a:chExt cx="914400" cy="1218960"/>
          </a:xfrm>
        </p:grpSpPr>
        <p:sp>
          <p:nvSpPr>
            <p:cNvPr id="971" name="Rectangle 4"/>
            <p:cNvSpPr/>
            <p:nvPr/>
          </p:nvSpPr>
          <p:spPr>
            <a:xfrm>
              <a:off x="725400" y="22255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"/>
            <p:cNvSpPr/>
            <p:nvPr/>
          </p:nvSpPr>
          <p:spPr>
            <a:xfrm>
              <a:off x="725400" y="24285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6"/>
            <p:cNvSpPr/>
            <p:nvPr/>
          </p:nvSpPr>
          <p:spPr>
            <a:xfrm>
              <a:off x="725400" y="26319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7"/>
            <p:cNvSpPr/>
            <p:nvPr/>
          </p:nvSpPr>
          <p:spPr>
            <a:xfrm>
              <a:off x="725400" y="28350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8"/>
            <p:cNvSpPr/>
            <p:nvPr/>
          </p:nvSpPr>
          <p:spPr>
            <a:xfrm>
              <a:off x="725400" y="30384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9"/>
            <p:cNvSpPr/>
            <p:nvPr/>
          </p:nvSpPr>
          <p:spPr>
            <a:xfrm>
              <a:off x="725400" y="324144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Line 10"/>
          <p:cNvSpPr/>
          <p:nvPr/>
        </p:nvSpPr>
        <p:spPr>
          <a:xfrm>
            <a:off x="1106640" y="16160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11"/>
          <p:cNvGrpSpPr/>
          <p:nvPr/>
        </p:nvGrpSpPr>
        <p:grpSpPr>
          <a:xfrm>
            <a:off x="3340080" y="1246320"/>
            <a:ext cx="914400" cy="1218600"/>
            <a:chOff x="3340080" y="1246320"/>
            <a:chExt cx="914400" cy="1218600"/>
          </a:xfrm>
        </p:grpSpPr>
        <p:sp>
          <p:nvSpPr>
            <p:cNvPr id="979" name="Rectangle 12"/>
            <p:cNvSpPr/>
            <p:nvPr/>
          </p:nvSpPr>
          <p:spPr>
            <a:xfrm>
              <a:off x="3340080" y="12463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3"/>
            <p:cNvSpPr/>
            <p:nvPr/>
          </p:nvSpPr>
          <p:spPr>
            <a:xfrm>
              <a:off x="3340080" y="14493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4"/>
            <p:cNvSpPr/>
            <p:nvPr/>
          </p:nvSpPr>
          <p:spPr>
            <a:xfrm>
              <a:off x="3340080" y="16524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5"/>
            <p:cNvSpPr/>
            <p:nvPr/>
          </p:nvSpPr>
          <p:spPr>
            <a:xfrm>
              <a:off x="3340080" y="18558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6"/>
            <p:cNvSpPr/>
            <p:nvPr/>
          </p:nvSpPr>
          <p:spPr>
            <a:xfrm>
              <a:off x="3340080" y="205884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7"/>
            <p:cNvSpPr/>
            <p:nvPr/>
          </p:nvSpPr>
          <p:spPr>
            <a:xfrm>
              <a:off x="3340080" y="22618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Group 18"/>
          <p:cNvGrpSpPr/>
          <p:nvPr/>
        </p:nvGrpSpPr>
        <p:grpSpPr>
          <a:xfrm>
            <a:off x="5168880" y="1474920"/>
            <a:ext cx="2209680" cy="812520"/>
            <a:chOff x="5168880" y="1474920"/>
            <a:chExt cx="2209680" cy="812520"/>
          </a:xfrm>
        </p:grpSpPr>
        <p:sp>
          <p:nvSpPr>
            <p:cNvPr id="986" name="Rectangle 19"/>
            <p:cNvSpPr/>
            <p:nvPr/>
          </p:nvSpPr>
          <p:spPr>
            <a:xfrm>
              <a:off x="5168880" y="14749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0"/>
            <p:cNvSpPr/>
            <p:nvPr/>
          </p:nvSpPr>
          <p:spPr>
            <a:xfrm>
              <a:off x="5168880" y="16779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168880" y="18813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5168880" y="20844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23"/>
          <p:cNvGrpSpPr/>
          <p:nvPr/>
        </p:nvGrpSpPr>
        <p:grpSpPr>
          <a:xfrm>
            <a:off x="7583400" y="3368520"/>
            <a:ext cx="914400" cy="609480"/>
            <a:chOff x="7583400" y="3368520"/>
            <a:chExt cx="914400" cy="609480"/>
          </a:xfrm>
        </p:grpSpPr>
        <p:sp>
          <p:nvSpPr>
            <p:cNvPr id="991" name="Rectangle 24"/>
            <p:cNvSpPr/>
            <p:nvPr/>
          </p:nvSpPr>
          <p:spPr>
            <a:xfrm>
              <a:off x="7583400" y="33685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25"/>
            <p:cNvSpPr/>
            <p:nvPr/>
          </p:nvSpPr>
          <p:spPr>
            <a:xfrm>
              <a:off x="7583400" y="3571560"/>
              <a:ext cx="9144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26"/>
            <p:cNvSpPr/>
            <p:nvPr/>
          </p:nvSpPr>
          <p:spPr>
            <a:xfrm>
              <a:off x="7583400" y="37749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1677960" y="3913200"/>
            <a:ext cx="2209680" cy="609480"/>
            <a:chOff x="1677960" y="3913200"/>
            <a:chExt cx="2209680" cy="609480"/>
          </a:xfrm>
        </p:grpSpPr>
        <p:sp>
          <p:nvSpPr>
            <p:cNvPr id="995" name="Rectangle 28"/>
            <p:cNvSpPr/>
            <p:nvPr/>
          </p:nvSpPr>
          <p:spPr>
            <a:xfrm>
              <a:off x="1677960" y="3913200"/>
              <a:ext cx="2209680" cy="2030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1677960" y="4116240"/>
              <a:ext cx="2209680" cy="20340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30"/>
            <p:cNvSpPr/>
            <p:nvPr/>
          </p:nvSpPr>
          <p:spPr>
            <a:xfrm>
              <a:off x="1677960" y="4319640"/>
              <a:ext cx="2209680" cy="2030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31"/>
          <p:cNvSpPr/>
          <p:nvPr/>
        </p:nvSpPr>
        <p:spPr>
          <a:xfrm>
            <a:off x="1982880" y="3913200"/>
            <a:ext cx="76176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2"/>
          <p:cNvSpPr/>
          <p:nvPr/>
        </p:nvSpPr>
        <p:spPr>
          <a:xfrm>
            <a:off x="2249640" y="5056200"/>
            <a:ext cx="1066680" cy="3049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1112760" y="3840480"/>
            <a:ext cx="5968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Group 34"/>
          <p:cNvGrpSpPr/>
          <p:nvPr/>
        </p:nvGrpSpPr>
        <p:grpSpPr>
          <a:xfrm>
            <a:off x="4863960" y="4065480"/>
            <a:ext cx="2209680" cy="381240"/>
            <a:chOff x="4863960" y="4065480"/>
            <a:chExt cx="2209680" cy="381240"/>
          </a:xfrm>
        </p:grpSpPr>
        <p:sp>
          <p:nvSpPr>
            <p:cNvPr id="1002" name="Rectangle 35"/>
            <p:cNvSpPr/>
            <p:nvPr/>
          </p:nvSpPr>
          <p:spPr>
            <a:xfrm>
              <a:off x="4863960" y="4065480"/>
              <a:ext cx="2209680" cy="19080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36"/>
            <p:cNvSpPr/>
            <p:nvPr/>
          </p:nvSpPr>
          <p:spPr>
            <a:xfrm>
              <a:off x="4863960" y="4256280"/>
              <a:ext cx="2209680" cy="1904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Rectangle 37"/>
          <p:cNvSpPr/>
          <p:nvPr/>
        </p:nvSpPr>
        <p:spPr>
          <a:xfrm>
            <a:off x="5168880" y="406548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5321160" y="5056200"/>
            <a:ext cx="1447920" cy="3049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9"/>
          <p:cNvSpPr/>
          <p:nvPr/>
        </p:nvSpPr>
        <p:spPr>
          <a:xfrm>
            <a:off x="4259520" y="4053960"/>
            <a:ext cx="616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40"/>
          <p:cNvSpPr/>
          <p:nvPr/>
        </p:nvSpPr>
        <p:spPr>
          <a:xfrm>
            <a:off x="2425680" y="452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41"/>
          <p:cNvSpPr/>
          <p:nvPr/>
        </p:nvSpPr>
        <p:spPr>
          <a:xfrm>
            <a:off x="3111480" y="452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42"/>
          <p:cNvSpPr/>
          <p:nvPr/>
        </p:nvSpPr>
        <p:spPr>
          <a:xfrm>
            <a:off x="5549760" y="4446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43"/>
          <p:cNvSpPr/>
          <p:nvPr/>
        </p:nvSpPr>
        <p:spPr>
          <a:xfrm>
            <a:off x="6464160" y="4446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44"/>
          <p:cNvSpPr/>
          <p:nvPr/>
        </p:nvSpPr>
        <p:spPr>
          <a:xfrm>
            <a:off x="1816200" y="2465280"/>
            <a:ext cx="1981080" cy="1447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45"/>
          <p:cNvSpPr/>
          <p:nvPr/>
        </p:nvSpPr>
        <p:spPr>
          <a:xfrm>
            <a:off x="3797280" y="3532320"/>
            <a:ext cx="1219320" cy="533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2349360" y="2313000"/>
            <a:ext cx="3124440" cy="1600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47"/>
          <p:cNvSpPr/>
          <p:nvPr/>
        </p:nvSpPr>
        <p:spPr>
          <a:xfrm>
            <a:off x="5473800" y="315108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48"/>
          <p:cNvSpPr/>
          <p:nvPr/>
        </p:nvSpPr>
        <p:spPr>
          <a:xfrm>
            <a:off x="6311880" y="2313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49"/>
          <p:cNvSpPr/>
          <p:nvPr/>
        </p:nvSpPr>
        <p:spPr>
          <a:xfrm>
            <a:off x="3263760" y="3303720"/>
            <a:ext cx="3048120" cy="609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reeform 50"/>
          <p:cNvSpPr/>
          <p:nvPr/>
        </p:nvSpPr>
        <p:spPr>
          <a:xfrm>
            <a:off x="6288120" y="2835360"/>
            <a:ext cx="1752480" cy="533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51"/>
          <p:cNvSpPr/>
          <p:nvPr/>
        </p:nvSpPr>
        <p:spPr>
          <a:xfrm>
            <a:off x="719280" y="6035760"/>
            <a:ext cx="83106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2"/>
          <p:cNvSpPr/>
          <p:nvPr/>
        </p:nvSpPr>
        <p:spPr>
          <a:xfrm flipH="1">
            <a:off x="8497440" y="3673440"/>
            <a:ext cx="381240" cy="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reeform 53"/>
          <p:cNvSpPr/>
          <p:nvPr/>
        </p:nvSpPr>
        <p:spPr>
          <a:xfrm>
            <a:off x="7354800" y="1844640"/>
            <a:ext cx="1524240" cy="4191120"/>
          </a:xfrm>
          <a:prstGeom prst="pie">
            <a:avLst/>
          </a:prstGeom>
          <a:noFill/>
          <a:ln w="572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54"/>
          <p:cNvSpPr/>
          <p:nvPr/>
        </p:nvSpPr>
        <p:spPr>
          <a:xfrm>
            <a:off x="1106640" y="3444840"/>
            <a:ext cx="0" cy="259092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55"/>
          <p:cNvSpPr/>
          <p:nvPr/>
        </p:nvSpPr>
        <p:spPr>
          <a:xfrm>
            <a:off x="6059520" y="5349960"/>
            <a:ext cx="0" cy="6858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56"/>
          <p:cNvSpPr/>
          <p:nvPr/>
        </p:nvSpPr>
        <p:spPr>
          <a:xfrm>
            <a:off x="2782800" y="5349960"/>
            <a:ext cx="0" cy="6858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57"/>
          <p:cNvSpPr/>
          <p:nvPr/>
        </p:nvSpPr>
        <p:spPr>
          <a:xfrm>
            <a:off x="8040600" y="39783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373320" y="1234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9"/>
          <p:cNvSpPr/>
          <p:nvPr/>
        </p:nvSpPr>
        <p:spPr>
          <a:xfrm>
            <a:off x="5463720" y="1158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60"/>
          <p:cNvSpPr/>
          <p:nvPr/>
        </p:nvSpPr>
        <p:spPr>
          <a:xfrm>
            <a:off x="3771720" y="45489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61"/>
          <p:cNvSpPr/>
          <p:nvPr/>
        </p:nvSpPr>
        <p:spPr>
          <a:xfrm flipV="1">
            <a:off x="3544920" y="4511160"/>
            <a:ext cx="0" cy="1219320"/>
          </a:xfrm>
          <a:prstGeom prst="line">
            <a:avLst/>
          </a:prstGeom>
          <a:ln w="381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62"/>
          <p:cNvSpPr/>
          <p:nvPr/>
        </p:nvSpPr>
        <p:spPr>
          <a:xfrm flipV="1">
            <a:off x="3544920" y="4511520"/>
            <a:ext cx="0" cy="152424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63"/>
          <p:cNvSpPr/>
          <p:nvPr/>
        </p:nvSpPr>
        <p:spPr>
          <a:xfrm flipV="1">
            <a:off x="6897600" y="4435200"/>
            <a:ext cx="0" cy="16002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64"/>
          <p:cNvSpPr/>
          <p:nvPr/>
        </p:nvSpPr>
        <p:spPr>
          <a:xfrm>
            <a:off x="2979720" y="618732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Data Bus (C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65"/>
          <p:cNvSpPr/>
          <p:nvPr/>
        </p:nvSpPr>
        <p:spPr>
          <a:xfrm>
            <a:off x="7496280" y="45871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66"/>
          <p:cNvSpPr/>
          <p:nvPr/>
        </p:nvSpPr>
        <p:spPr>
          <a:xfrm>
            <a:off x="2409120" y="1234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67"/>
          <p:cNvSpPr/>
          <p:nvPr/>
        </p:nvSpPr>
        <p:spPr>
          <a:xfrm>
            <a:off x="1415160" y="17676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68"/>
          <p:cNvSpPr/>
          <p:nvPr/>
        </p:nvSpPr>
        <p:spPr>
          <a:xfrm>
            <a:off x="6654960" y="298692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9"/>
          <p:cNvSpPr/>
          <p:nvPr/>
        </p:nvSpPr>
        <p:spPr>
          <a:xfrm>
            <a:off x="91440" y="2210400"/>
            <a:ext cx="676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servation Station Compon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Op: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tion to perform in the unit (e.g., + or –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Vj, Vk: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Source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 buffers has V field, result to be sto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Qj, Q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rvation stations producing source registers (value to be writt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e: Qj,Qk=0 =&gt; read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 buffers only have Qi for RS producing resul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Bus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cates reservation station or FU is bu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gister result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—Indicates which functional unit will write each register, if one exists. Blank when no pending instructions that will write that regis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Stages of Tomasulo Algorith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034640" y="1143000"/>
            <a:ext cx="80326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Issu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get instruction from FP Op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reservation station free (no structural hazard)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issues instr &amp; sends operands (renames register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Execu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operate on operands (EX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both operands ready then execut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f not ready, watch Common Data Bus for resul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Write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resul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finish execution (WB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 on Common Data Bus to all awaiting unit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rk reservation station availa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rmal data bus: data + destination (“go to” bu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Common data b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data + 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sour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 (“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come fro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” bu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4 bits of data + 4 bits of Functional Unit  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sour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 if matches expected Functional Unit (produces resul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es the broadca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ample speed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 clocks for Fl .pt. +,-; 10 for * ; 40 clks for /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457200" y="1143000"/>
          <a:ext cx="8529480" cy="480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52948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4" name="Group 4"/>
          <p:cNvGrpSpPr/>
          <p:nvPr/>
        </p:nvGrpSpPr>
        <p:grpSpPr>
          <a:xfrm>
            <a:off x="422280" y="5409720"/>
            <a:ext cx="1400040" cy="947880"/>
            <a:chOff x="422280" y="5409720"/>
            <a:chExt cx="1400040" cy="947880"/>
          </a:xfrm>
        </p:grpSpPr>
        <p:sp>
          <p:nvSpPr>
            <p:cNvPr id="1045" name="Text Box 5"/>
            <p:cNvSpPr/>
            <p:nvPr/>
          </p:nvSpPr>
          <p:spPr>
            <a:xfrm>
              <a:off x="422280" y="571500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Clock cycle </a:t>
              </a:r>
              <a:br>
                <a:rPr sz="1800"/>
              </a:b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cou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6"/>
            <p:cNvSpPr/>
            <p:nvPr/>
          </p:nvSpPr>
          <p:spPr>
            <a:xfrm flipV="1">
              <a:off x="685800" y="5409720"/>
              <a:ext cx="228600" cy="30492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Group 7"/>
          <p:cNvGrpSpPr/>
          <p:nvPr/>
        </p:nvGrpSpPr>
        <p:grpSpPr>
          <a:xfrm>
            <a:off x="549360" y="3625920"/>
            <a:ext cx="1203120" cy="870840"/>
            <a:chOff x="549360" y="3625920"/>
            <a:chExt cx="1203120" cy="870840"/>
          </a:xfrm>
        </p:grpSpPr>
        <p:sp>
          <p:nvSpPr>
            <p:cNvPr id="1048" name="Text Box 8"/>
            <p:cNvSpPr/>
            <p:nvPr/>
          </p:nvSpPr>
          <p:spPr>
            <a:xfrm>
              <a:off x="549360" y="38541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FU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9"/>
            <p:cNvSpPr/>
            <p:nvPr/>
          </p:nvSpPr>
          <p:spPr>
            <a:xfrm flipV="1">
              <a:off x="1523880" y="3625920"/>
              <a:ext cx="228600" cy="30456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Group 10"/>
          <p:cNvGrpSpPr/>
          <p:nvPr/>
        </p:nvGrpSpPr>
        <p:grpSpPr>
          <a:xfrm>
            <a:off x="217080" y="914400"/>
            <a:ext cx="2177280" cy="1066680"/>
            <a:chOff x="217080" y="914400"/>
            <a:chExt cx="2177280" cy="1066680"/>
          </a:xfrm>
        </p:grpSpPr>
        <p:sp>
          <p:nvSpPr>
            <p:cNvPr id="1051" name="Text Box 11"/>
            <p:cNvSpPr/>
            <p:nvPr/>
          </p:nvSpPr>
          <p:spPr>
            <a:xfrm>
              <a:off x="217080" y="914400"/>
              <a:ext cx="21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Instructio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325080" y="1295280"/>
              <a:ext cx="380880" cy="68580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6540120" y="2133720"/>
            <a:ext cx="1765800" cy="672840"/>
            <a:chOff x="6540120" y="2133720"/>
            <a:chExt cx="1765800" cy="672840"/>
          </a:xfrm>
        </p:grpSpPr>
        <p:sp>
          <p:nvSpPr>
            <p:cNvPr id="1054" name="Line 14"/>
            <p:cNvSpPr/>
            <p:nvPr/>
          </p:nvSpPr>
          <p:spPr>
            <a:xfrm flipH="1" flipV="1">
              <a:off x="7009920" y="2133720"/>
              <a:ext cx="304920" cy="30456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5"/>
            <p:cNvSpPr/>
            <p:nvPr/>
          </p:nvSpPr>
          <p:spPr>
            <a:xfrm>
              <a:off x="6540120" y="243828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3 Load/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6324120" y="3733920"/>
            <a:ext cx="2302920" cy="642600"/>
            <a:chOff x="6324120" y="3733920"/>
            <a:chExt cx="2302920" cy="642600"/>
          </a:xfrm>
        </p:grpSpPr>
        <p:sp>
          <p:nvSpPr>
            <p:cNvPr id="1057" name="Text Box 17"/>
            <p:cNvSpPr/>
            <p:nvPr/>
          </p:nvSpPr>
          <p:spPr>
            <a:xfrm>
              <a:off x="6840000" y="3733920"/>
              <a:ext cx="178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3 FP Adder R.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2 FP Mult R.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18"/>
            <p:cNvSpPr/>
            <p:nvPr/>
          </p:nvSpPr>
          <p:spPr>
            <a:xfrm flipH="1">
              <a:off x="6324120" y="4038480"/>
              <a:ext cx="381240" cy="0"/>
            </a:xfrm>
            <a:prstGeom prst="line">
              <a:avLst/>
            </a:prstGeom>
            <a:ln w="2844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AutoShape 4"/>
          <p:cNvSpPr/>
          <p:nvPr/>
        </p:nvSpPr>
        <p:spPr>
          <a:xfrm>
            <a:off x="3124080" y="1371600"/>
            <a:ext cx="5335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6248520" y="1371600"/>
            <a:ext cx="167616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/>
          <p:cNvSpPr/>
          <p:nvPr/>
        </p:nvSpPr>
        <p:spPr>
          <a:xfrm>
            <a:off x="4876920" y="5181480"/>
            <a:ext cx="76176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AutoShape 4"/>
          <p:cNvSpPr/>
          <p:nvPr/>
        </p:nvSpPr>
        <p:spPr>
          <a:xfrm>
            <a:off x="3124080" y="16765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5"/>
          <p:cNvSpPr/>
          <p:nvPr/>
        </p:nvSpPr>
        <p:spPr>
          <a:xfrm>
            <a:off x="6248520" y="1752480"/>
            <a:ext cx="167616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6"/>
          <p:cNvSpPr/>
          <p:nvPr/>
        </p:nvSpPr>
        <p:spPr>
          <a:xfrm>
            <a:off x="3633840" y="5132520"/>
            <a:ext cx="7621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1063800" y="5791320"/>
            <a:ext cx="4963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Note: Can have multiple load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3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AutoShape 4"/>
          <p:cNvSpPr/>
          <p:nvPr/>
        </p:nvSpPr>
        <p:spPr>
          <a:xfrm>
            <a:off x="2438280" y="4038480"/>
            <a:ext cx="39625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5"/>
          <p:cNvSpPr/>
          <p:nvPr/>
        </p:nvSpPr>
        <p:spPr>
          <a:xfrm>
            <a:off x="2965320" y="5132520"/>
            <a:ext cx="7621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1028880" y="5562720"/>
            <a:ext cx="78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32b7"/>
                </a:solidFill>
                <a:latin typeface="Arial"/>
                <a:ea typeface="Arial"/>
              </a:rPr>
              <a:t>Note: registers names are removed (“renamed”) in Reservation Stations; MULT iss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32b7"/>
                </a:solidFill>
                <a:latin typeface="Arial"/>
                <a:ea typeface="Arial"/>
              </a:rPr>
              <a:t>Load1 completing; what is waiting for Load1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7"/>
          <p:cNvSpPr/>
          <p:nvPr/>
        </p:nvSpPr>
        <p:spPr>
          <a:xfrm>
            <a:off x="3809880" y="14479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struction-Level Parallelism (ILP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ic Block (BB) ILP is quite s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B: a straight-line code sequence with no branches in except to the entry and no branches out except at the ex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dynamic branch frequency 15% to 25%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&gt; 4 to 7 instructions execute between a pair of bran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s instructions in BB likely to depend on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obtain substantial performance enhancements, we must exploit ILP across multiple basic blo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st: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loop-level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xploit parallelism among iterations of a loop.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(i=1; i&lt;=1000; i=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x[i] = x[i] + y[i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Rectangle 4"/>
          <p:cNvSpPr/>
          <p:nvPr/>
        </p:nvSpPr>
        <p:spPr>
          <a:xfrm>
            <a:off x="1104840" y="571500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Load2 completing; what is waiting for Load2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5"/>
          <p:cNvSpPr/>
          <p:nvPr/>
        </p:nvSpPr>
        <p:spPr>
          <a:xfrm>
            <a:off x="3809880" y="16765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6"/>
          <p:cNvSpPr/>
          <p:nvPr/>
        </p:nvSpPr>
        <p:spPr>
          <a:xfrm>
            <a:off x="4419720" y="1447920"/>
            <a:ext cx="53316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7"/>
          <p:cNvSpPr/>
          <p:nvPr/>
        </p:nvSpPr>
        <p:spPr>
          <a:xfrm>
            <a:off x="3124080" y="21337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8"/>
          <p:cNvSpPr/>
          <p:nvPr/>
        </p:nvSpPr>
        <p:spPr>
          <a:xfrm>
            <a:off x="2438280" y="3429000"/>
            <a:ext cx="396252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Rectangle 4"/>
          <p:cNvSpPr/>
          <p:nvPr/>
        </p:nvSpPr>
        <p:spPr>
          <a:xfrm>
            <a:off x="1028880" y="57913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Timer starts down for Add1, Mul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5"/>
          <p:cNvSpPr/>
          <p:nvPr/>
        </p:nvSpPr>
        <p:spPr>
          <a:xfrm>
            <a:off x="1371600" y="3200400"/>
            <a:ext cx="533520" cy="121932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219320"/>
              <a:gd name="textAreaBottom" fmla="*/ 1193400 h 1219320"/>
            </a:gdLst>
            <a:ahLst/>
            <a:rect l="textAreaLeft" t="textAreaTop" r="textAreaRight" b="textAreaBottom"/>
            <a:pathLst>
              <a:path w="21600" h="49346">
                <a:moveTo>
                  <a:pt x="3600" y="0"/>
                </a:moveTo>
                <a:arcTo wR="3600" hR="3600" stAng="16200000" swAng="-5400000"/>
                <a:lnTo>
                  <a:pt x="0" y="45746"/>
                </a:lnTo>
                <a:arcTo wR="3600" hR="3600" stAng="10800000" swAng="-5400000"/>
                <a:lnTo>
                  <a:pt x="18000" y="49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4343400" y="34290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7"/>
          <p:cNvSpPr/>
          <p:nvPr/>
        </p:nvSpPr>
        <p:spPr>
          <a:xfrm>
            <a:off x="3733920" y="4114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Rectangle 4"/>
          <p:cNvSpPr/>
          <p:nvPr/>
        </p:nvSpPr>
        <p:spPr>
          <a:xfrm>
            <a:off x="1028880" y="5791320"/>
            <a:ext cx="78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Issue ADDD here despite name dependency on F6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5"/>
          <p:cNvSpPr/>
          <p:nvPr/>
        </p:nvSpPr>
        <p:spPr>
          <a:xfrm>
            <a:off x="2971800" y="25909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6"/>
          <p:cNvSpPr/>
          <p:nvPr/>
        </p:nvSpPr>
        <p:spPr>
          <a:xfrm>
            <a:off x="2438280" y="3657600"/>
            <a:ext cx="396252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7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Rectangle 4"/>
          <p:cNvSpPr/>
          <p:nvPr/>
        </p:nvSpPr>
        <p:spPr>
          <a:xfrm>
            <a:off x="1028880" y="579132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dd1 (SUB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5"/>
          <p:cNvSpPr/>
          <p:nvPr/>
        </p:nvSpPr>
        <p:spPr>
          <a:xfrm>
            <a:off x="3809880" y="21337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8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AutoShape 4"/>
          <p:cNvSpPr/>
          <p:nvPr/>
        </p:nvSpPr>
        <p:spPr>
          <a:xfrm>
            <a:off x="3733920" y="36576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5638680" y="5257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9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0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Rectangle 4"/>
          <p:cNvSpPr/>
          <p:nvPr/>
        </p:nvSpPr>
        <p:spPr>
          <a:xfrm>
            <a:off x="1066680" y="5715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dd2 (ADD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Rectangle 4"/>
          <p:cNvSpPr/>
          <p:nvPr/>
        </p:nvSpPr>
        <p:spPr>
          <a:xfrm>
            <a:off x="1050840" y="5638680"/>
            <a:ext cx="7102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Write result of ADDD 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ll quick instructions complete in this cyc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5"/>
          <p:cNvSpPr/>
          <p:nvPr/>
        </p:nvSpPr>
        <p:spPr>
          <a:xfrm>
            <a:off x="4800600" y="5257800"/>
            <a:ext cx="9144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3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Loop-Level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loit loop-level parallelism to parallelism by “unrolling loop” either b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via branch prediction 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via loop unrolling by compil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nother way is vectors, to be covered la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ing instruction dependence is critical to Loop Level Parallel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2 instructions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9200" indent="-2613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y can execute simultaneously in a pipeline of arbitrary depth without causing any stalls (assuming no structural hazard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9200" indent="-2613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y are not parallel and must be executed in order, although they may often be partially overlapp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4"/>
          <p:cNvSpPr/>
          <p:nvPr/>
        </p:nvSpPr>
        <p:spPr>
          <a:xfrm>
            <a:off x="1066680" y="57913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Mult1 (MULT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8" name="AutoShape 4"/>
          <p:cNvSpPr/>
          <p:nvPr/>
        </p:nvSpPr>
        <p:spPr>
          <a:xfrm>
            <a:off x="3048120" y="5257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3733920" y="43434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990720" y="5715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Just waiting for Mult2 (DIVD) to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ster than light computatio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skip a couple of cycle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Rectangle 4"/>
          <p:cNvSpPr/>
          <p:nvPr/>
        </p:nvSpPr>
        <p:spPr>
          <a:xfrm>
            <a:off x="1066680" y="5803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Mult2 (DIVD) is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7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Rectangle 4"/>
          <p:cNvSpPr/>
          <p:nvPr/>
        </p:nvSpPr>
        <p:spPr>
          <a:xfrm>
            <a:off x="990720" y="5575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Once again: In-order issue, out-of-order execution and out-of-order com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AutoShape 5"/>
          <p:cNvSpPr/>
          <p:nvPr/>
        </p:nvSpPr>
        <p:spPr>
          <a:xfrm>
            <a:off x="312408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AutoShape 6"/>
          <p:cNvSpPr/>
          <p:nvPr/>
        </p:nvSpPr>
        <p:spPr>
          <a:xfrm>
            <a:off x="312408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AutoShape 7"/>
          <p:cNvSpPr/>
          <p:nvPr/>
        </p:nvSpPr>
        <p:spPr>
          <a:xfrm>
            <a:off x="3809880" y="1905120"/>
            <a:ext cx="457200" cy="10666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066680"/>
              <a:gd name="textAreaBottom" fmla="*/ 1044360 h 1066680"/>
            </a:gdLst>
            <a:ahLst/>
            <a:rect l="textAreaLeft" t="textAreaTop" r="textAreaRight" b="textAreaBottom"/>
            <a:pathLst>
              <a:path w="21600" h="50372">
                <a:moveTo>
                  <a:pt x="3600" y="0"/>
                </a:moveTo>
                <a:arcTo wR="3600" hR="3600" stAng="16200000" swAng="-5400000"/>
                <a:lnTo>
                  <a:pt x="0" y="46772"/>
                </a:lnTo>
                <a:arcTo wR="3600" hR="3600" stAng="10800000" swAng="-5400000"/>
                <a:lnTo>
                  <a:pt x="18000" y="503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AutoShape 8"/>
          <p:cNvSpPr/>
          <p:nvPr/>
        </p:nvSpPr>
        <p:spPr>
          <a:xfrm>
            <a:off x="441972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hy can Tomasulo overlap iterations of loops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iterations use different physical destinations for registers (dynamic loop unrolling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rvation st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it instruction issue to advance past integer control flow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buffer old values of registers - totally avoiding the WAR stal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perspective: Tomasulo building data flow dependency graph on the f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’s scheme offers 2 major advantag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ion of the hazard detection log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reservation stations and the CD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multiple instructions waiting on single result, &amp; each instruction has other operand, then instructions can be released simultaneously by broadcast on CDB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 centralized register file were used, the units would have to read their results from the registers when register buses are avai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imination of stalls for WAW and WAR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Drawback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s of 360/91, MIPS 10000, Alpha 2126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 PPC 620 in CA:AQA 2/e, but not in silic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associative stores (CDB) at high spe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 limited by Common Data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DB must go to multiple functional un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capacitance, high wiring dens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functional units that can complete per cycle limited to on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DB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FU logic for parallel assoc sto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s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data dependen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aka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true dependen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36200" indent="-315360">
              <a:spcBef>
                <a:spcPts val="550"/>
              </a:spcBef>
              <a:buClr>
                <a:srgbClr val="3891a7"/>
              </a:buClr>
              <a:buFont typeface="Gill Sans MT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ries to read operand before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s it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36200" indent="-315360">
              <a:spcBef>
                <a:spcPts val="550"/>
              </a:spcBef>
              <a:buClr>
                <a:srgbClr val="3891a7"/>
              </a:buClr>
              <a:buFont typeface="Gill Sans MT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s data dependent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hich is dependent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two instructions are data dependent, they cannot execute simultaneously or be completely overlapped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ata dependence in instruction seque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data dependence in source co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effect of original data dependence must be preserv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data dependence caused a hazard in pipelin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lled a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Read After Write (RAW) hazard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Dependence and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2286000" y="205740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: add r1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J: sub r4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rc 5"/>
          <p:cNvSpPr/>
          <p:nvPr/>
        </p:nvSpPr>
        <p:spPr>
          <a:xfrm flipH="1" flipV="1">
            <a:off x="1828080" y="2286000"/>
            <a:ext cx="468360" cy="457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 … #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rage Implicit Parallelism for Performance: Instruction Level Parallel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 by compiler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prediction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HW exploiting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s when can’t know dependence at compile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hide L1 cache mi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for one machine runs well on an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 … #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servations stations: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renamin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o larger set of registers + buffering source opera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vents registers as bottlene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oids WAR, WAW haza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loop unrolling in HW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 limited to basic block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integer units gets ahead, beyond branch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ps cache misses as we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sting Contrib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ster renam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ad/store disambigu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60/91 descendants are Intel Pentium 4, IBM Power 5, AMD Athlon/Opteron, …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LP and Data Dependencies,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W/SW must preserve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rogram ord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der instructions would execute in if executed sequentially as determined by original sourc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pendences are a property of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sence of dependence indicates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otenti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a hazard, but actual hazard and length of any stall is property of the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pe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ance of the data dependenc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indicates the possibility of a hazar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determines order in which results must be calcula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sets an upper bound on how much parallelism can possibly be exploi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W/SW goal: exploit parallelism by preserving program order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only where it affects the outcome of th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Name dependence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2 instructions use same register or memory location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but no flow of data between the instructions associated with that name;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2 versions of name depend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anti-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sults from reuse of the name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nti-dependence caused a hazard in the pipeline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Write After Read (WAR) haz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2133360" y="3429000"/>
            <a:ext cx="3810240" cy="1186200"/>
            <a:chOff x="2133360" y="3429000"/>
            <a:chExt cx="3810240" cy="1186200"/>
          </a:xfrm>
        </p:grpSpPr>
        <p:sp>
          <p:nvSpPr>
            <p:cNvPr id="649" name="Rectangle 4"/>
            <p:cNvSpPr/>
            <p:nvPr/>
          </p:nvSpPr>
          <p:spPr>
            <a:xfrm>
              <a:off x="2590920" y="3429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4,r1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Arc 5"/>
            <p:cNvSpPr/>
            <p:nvPr/>
          </p:nvSpPr>
          <p:spPr>
            <a:xfrm flipH="1" flipV="1">
              <a:off x="2133000" y="358128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ame Dependence #1: Anti-depende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3:19:07Z</dcterms:created>
  <dc:creator>Pusat Komputer</dc:creator>
  <dc:description/>
  <dc:language>en-US</dc:language>
  <cp:lastModifiedBy>Nasharuddin Zainal</cp:lastModifiedBy>
  <dcterms:modified xsi:type="dcterms:W3CDTF">2011-12-02T03:36:14Z</dcterms:modified>
  <cp:revision>118</cp:revision>
  <dc:subject/>
  <dc:title>Computer Organization  and Architecture</dc:title>
</cp:coreProperties>
</file>